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B4C-1E8D-4303-BCB0-DA89EA50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342-BA61-486D-9CD1-6E109047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088-FC37-43AF-B983-88E18043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CB8-61EA-4A9D-A917-01902DC3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146-3F1E-45CD-8693-F0DB29C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99A-085D-42EE-A60E-70D56CF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ECE-2A90-4031-9512-653D117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EB9-EDE7-4CE6-93E7-78EBADF4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B31-4EF8-48ED-9AD9-DB06F1F4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1A5-8A29-4B5B-B32F-D14D60F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E34-9C25-4019-B7F9-6F1E00A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9A7-442C-40AF-9984-F7DFF59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BF9-4E02-4237-BE56-6EE58718114D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Arial"/>
              </a:rPr>
              <a:t>Posao ti je dosa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00"/>
                </a:solidFill>
                <a:latin typeface="Arial"/>
              </a:rPr>
              <a:t>Imaš loše radne uvj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ff00"/>
                </a:solidFill>
                <a:latin typeface="Arial"/>
              </a:rPr>
              <a:t>Telefon </a:t>
            </a: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stalno zvon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Stolac škr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Loše svjetlo</a:t>
            </a:r>
            <a:r>
              <a:rPr b="0" lang="da-DK" sz="32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Monitor ti umara oč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Svi oko tebe pričaju glup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Premalo zarađuje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00"/>
                </a:solidFill>
                <a:latin typeface="Arial"/>
              </a:rPr>
              <a:t>Tvoj šef je idi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200" spc="-1" strike="noStrike">
                <a:solidFill>
                  <a:srgbClr val="ff9900"/>
                </a:solidFill>
                <a:latin typeface="Arial"/>
              </a:rPr>
              <a:t>Budi zadovoljan s onim što imaš!</a:t>
            </a:r>
            <a:r>
              <a:rPr b="1" lang="da-DK" sz="7200" spc="-1" strike="noStrike">
                <a:solidFill>
                  <a:srgbClr val="ff9900"/>
                </a:solidFill>
                <a:latin typeface="Arial"/>
              </a:rPr>
              <a:t>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29648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0000"/>
            <a:ext cx="76327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665280"/>
            <a:ext cx="770400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2926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25600"/>
            <a:ext cx="8229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905120"/>
            <a:ext cx="7075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ff00"/>
                </a:solidFill>
                <a:latin typeface="Arial"/>
              </a:rPr>
              <a:t>Malo ljudi ima tako dobar posao kao ti!</a:t>
            </a:r>
            <a:r>
              <a:rPr b="0" lang="da-DK" sz="4800" spc="-1" strike="noStrike">
                <a:solidFill>
                  <a:srgbClr val="00ff00"/>
                </a:solidFill>
                <a:latin typeface="Arial"/>
              </a:rPr>
              <a:t>!!</a:t>
            </a:r>
            <a:br>
              <a:rPr sz="4800"/>
            </a:br>
            <a:r>
              <a:rPr b="0" lang="hr-HR" sz="4800" spc="-1" strike="noStrike">
                <a:solidFill>
                  <a:srgbClr val="ff0000"/>
                </a:solidFill>
                <a:latin typeface="Arial"/>
              </a:rPr>
              <a:t>Dakle, primi se posla</a:t>
            </a:r>
            <a:r>
              <a:rPr b="0" lang="da-DK" sz="48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0:50:01Z</dcterms:created>
  <dc:creator>Superfos</dc:creator>
  <dc:description/>
  <dc:language>en-US</dc:language>
  <cp:lastModifiedBy>Sonja</cp:lastModifiedBy>
  <dcterms:modified xsi:type="dcterms:W3CDTF">2008-12-01T06:28:55Z</dcterms:modified>
  <cp:revision>15</cp:revision>
  <dc:subject/>
  <dc:title>Er du træt af dit job.</dc:title>
</cp:coreProperties>
</file>