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554-A717-4CA5-9CFC-380250F4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0F8-AA05-4FCA-98D0-0CB8BD3F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D5B-D5B9-4346-A4E5-B2CA5BD9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F5F-C986-4CF5-85FF-C39010F3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BEF-D721-4922-8353-17AE97CE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D1E-023A-4C34-9C92-38A2E35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92F-DAEA-48B2-A239-B18803B0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D20-EF28-428A-996F-A28687C1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E04-5F88-4353-83E2-B2E6BC83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20A-3A55-4BA8-81EB-AA3A71C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A12-FC0D-45B5-A681-6E32978D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FE8-5013-4E47-B80E-C5F8FB3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0457-52EA-4E89-958C-E4FDD63CBA9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vijesni razvoj Inter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jiga str.6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ijent-poslužitelj topolog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i jedno glavno računalo -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služitel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na koje su priključena jedno ili više radnih računala / radnih stanica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lijen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Čvor-čvor topolog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 priključena računala međusobno ravnopra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nosti i nedostaci rada u mrežnome okruženj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dijeljenje resur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razmjena podat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višekorisnički r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važni podatci smješteni su na jednome mje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ostac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značajno povećana opasnost od širenja vir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nužnost poštovanja pravila pona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 povećana odgovornost svih "članova" mreže u smislu zaštite i očuvanja tajnosti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 određenih i prihvaćenih pravila koja omogućavaju prijenosa podataka između računala na mreži ili mrež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"mrežu svih mreža" čini veliki broj računala razmještenih širom svijeta i međusobno povezanih u jednu mrež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jenosni kabel je veza putem koje poruke mogu putovati s jednog mjesta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Baud rat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(B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zina prijenosa digitalnih signala mjeri se brojem bitova prenesenih u jednoj seku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6 kbps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kilobits per secon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čunalni informacijski s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stoji se od računala, računalnih mreža, pohranjenih informacija i organizacije koja održava takav susta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a zadaća je omogućiti korisniku djelotvorno pretraživanje i dobavu inform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unikacijski k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ogućava razmjenu podataka između korisnika i izvora informa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dvije vr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najmljeni komunikacijski k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na telefonsk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unikacijski uređaj koji omogućuje prijenos podataka putem analognog signala telefonske linije (modulator/demodul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D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gitalna telefonska mreža koja omogućuje puno brži prijenos podataka u digitalnom obli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gitalna tehnologija koja iskorištava puno raspoloživo frekvencijsko područje telefonskih li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jelo vrijeme “on line”, velika brzina prijenosa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plaćuje se prema količini prenese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čunalne mrež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dva i više računala koja su fizički povezana da bi zajednički koristili resurse koji se nalaze unutar te mrež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čunalne mreže razlikuju 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 broju i lokaciji umreženih raču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 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 W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 organizaciji (topologi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 poslužitelj – klij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 čvor-č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engl. 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cal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etwor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lokalna mrež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je u koju je povezano do nekoliko desetaka računala koja se nalaze (najčešće) u istoj zgradi i za njihovo povezivanje nije potrebna "vanjska" infrastruktura (telefonske linije i sl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ide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etwor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"vanjska" mrež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je u kojoj je povezan veći broj računala i lokalnih mreža sa širega prostora u jednu široku mrežu. Vrlo često potrebna je dodatna infrastruktura (telefonske linije i sl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7:47:50Z</dcterms:created>
  <dc:creator>Sonja</dc:creator>
  <dc:description/>
  <dc:language>en-US</dc:language>
  <cp:lastModifiedBy>Sonja</cp:lastModifiedBy>
  <dcterms:modified xsi:type="dcterms:W3CDTF">2008-12-01T06:39:41Z</dcterms:modified>
  <cp:revision>6</cp:revision>
  <dc:subject/>
  <dc:title>POVEZIVANJE RAČUNALA</dc:title>
</cp:coreProperties>
</file>