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7C3-21A3-4E9A-9D8A-4CC05C37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0A3-506C-41BE-A0CB-2E1F990A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B4F-48EE-4335-A9B4-520FD28E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7AF-5D78-4F06-9B70-C8B93FA6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BBD-ADFA-4CD8-910F-26F9786A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8B5-5D55-489E-8FFB-939AE18B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9DF-1CCD-423B-ABC8-CCEE6E6E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536-9F44-4D89-88C4-2FA56ED6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E3A-E0C1-4835-9B57-CA529CD7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77B-CB14-486A-BD6C-40818E25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111-99CC-4971-8F17-0F39F368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1D1-C96D-4A1A-89C8-F9967114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C872-720F-448C-A7B4-48B9AEE61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289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2320" y="228600"/>
            <a:ext cx="4647960" cy="39888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ff"/>
                </a:solidFill>
                <a:latin typeface="Comic Sans MS"/>
              </a:rPr>
              <a:t>Za nadolazeću godinu želim ti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181480"/>
            <a:ext cx="2514600" cy="39888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ff"/>
                </a:solidFill>
                <a:latin typeface="Comic Sans MS"/>
              </a:rPr>
              <a:t>tople praznik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13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57600" y="838080"/>
            <a:ext cx="2133720" cy="70380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66ff"/>
                </a:solidFill>
                <a:latin typeface="Comic Sans MS"/>
              </a:rPr>
              <a:t>dobro zdravlj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762120"/>
            <a:ext cx="2133360" cy="70380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66ff"/>
                </a:solidFill>
                <a:latin typeface="Comic Sans MS"/>
              </a:rPr>
              <a:t>vremena za igru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3505320" cy="304920"/>
          </a:xfrm>
          <a:custGeom>
            <a:avLst/>
            <a:gdLst>
              <a:gd name="textAreaLeft" fmla="*/ 800280 w 3505320"/>
              <a:gd name="textAreaRight" fmla="*/ 2705040 w 3505320"/>
              <a:gd name="textAreaTop" fmla="*/ 69480 h 304920"/>
              <a:gd name="textAreaBottom" fmla="*/ 2354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7a6cc"/>
          </a:solidFill>
          <a:ln w="9360">
            <a:solidFill>
              <a:srgbClr val="c0b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417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66880" y="304920"/>
            <a:ext cx="3886200" cy="39888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66ff"/>
                </a:solidFill>
                <a:latin typeface="Comic Sans MS"/>
              </a:rPr>
              <a:t>i malo pustolovi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24080" y="380880"/>
            <a:ext cx="2819520" cy="39888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66ff"/>
                </a:solidFill>
                <a:latin typeface="Comic Sans MS"/>
              </a:rPr>
              <a:t>ali najviše od sve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20880" y="1023840"/>
            <a:ext cx="73040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3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914400"/>
            <a:ext cx="2209680" cy="82548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966ff"/>
                </a:solidFill>
                <a:latin typeface="Comic Sans MS"/>
              </a:rPr>
              <a:t>Puno ljubavi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5943600"/>
            <a:ext cx="3048120" cy="70380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66ff"/>
                </a:solidFill>
                <a:latin typeface="Comic Sans MS"/>
              </a:rPr>
              <a:t>Sretan</a:t>
            </a:r>
            <a:r>
              <a:rPr b="1" lang="nl-NL" sz="2000" spc="-1" strike="noStrike">
                <a:solidFill>
                  <a:srgbClr val="9966ff"/>
                </a:solidFill>
                <a:latin typeface="Comic Sans MS"/>
              </a:rPr>
              <a:t> Božić i Nova Godin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06:56:30Z</dcterms:created>
  <dc:creator>Molnár Adrienn</dc:creator>
  <dc:description/>
  <dc:language>en-US</dc:language>
  <cp:lastModifiedBy>Sonja</cp:lastModifiedBy>
  <dcterms:modified xsi:type="dcterms:W3CDTF">2008-12-01T06:42:00Z</dcterms:modified>
  <cp:revision>22</cp:revision>
  <dc:subject/>
  <dc:title>No Slide Title</dc:title>
</cp:coreProperties>
</file>