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DFF-3775-4CBF-A7D1-A2854EC3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E01-BC89-40B4-A801-F771AC69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528-FA32-49C4-AD1F-D001C0E3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344-2517-4B7C-A570-E25B7EA0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AA3-C6BA-4D73-8DE3-69475A5C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EC9-86EB-4F4B-8310-C43B7A5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BF5-A172-4B8F-8898-AC9E9726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3F0-B2BF-4ACB-BA9A-D15CBBF0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E2C-79F9-4E53-AB29-3BB9F03E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56C-47A9-4314-AA38-31B5F350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4D8-FC54-4E5E-BBA8-99F6ACAE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10D-5F43-460C-B502-949D0B70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339C-66F5-4C22-A4AE-A84A071FD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289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228600"/>
            <a:ext cx="4647960" cy="39888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ff"/>
                </a:solidFill>
                <a:latin typeface="Comic Sans MS"/>
              </a:rPr>
              <a:t>Za nadolazeću godinu želim t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181480"/>
            <a:ext cx="2514600" cy="39888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ff"/>
                </a:solidFill>
                <a:latin typeface="Comic Sans MS"/>
              </a:rPr>
              <a:t>tople praznik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13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57600" y="838080"/>
            <a:ext cx="2133720" cy="7038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66ff"/>
                </a:solidFill>
                <a:latin typeface="Comic Sans MS"/>
              </a:rPr>
              <a:t>dobro zdravlj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762120"/>
            <a:ext cx="2133360" cy="7038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66ff"/>
                </a:solidFill>
                <a:latin typeface="Comic Sans MS"/>
              </a:rPr>
              <a:t>vremena za igru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3505320" cy="304920"/>
          </a:xfrm>
          <a:custGeom>
            <a:avLst/>
            <a:gdLst>
              <a:gd name="textAreaLeft" fmla="*/ 800280 w 3505320"/>
              <a:gd name="textAreaRight" fmla="*/ 2705040 w 3505320"/>
              <a:gd name="textAreaTop" fmla="*/ 69480 h 304920"/>
              <a:gd name="textAreaBottom" fmla="*/ 2354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7a6cc"/>
          </a:solidFill>
          <a:ln w="9360">
            <a:solidFill>
              <a:srgbClr val="c0b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417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6880" y="304920"/>
            <a:ext cx="3886200" cy="39888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66ff"/>
                </a:solidFill>
                <a:latin typeface="Comic Sans MS"/>
              </a:rPr>
              <a:t>i malo pustolovi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24080" y="380880"/>
            <a:ext cx="2819520" cy="39888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66ff"/>
                </a:solidFill>
                <a:latin typeface="Comic Sans MS"/>
              </a:rPr>
              <a:t>ali najviše od sve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20880" y="1023840"/>
            <a:ext cx="7304040" cy="4811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3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914400"/>
            <a:ext cx="2209680" cy="82548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966ff"/>
                </a:solidFill>
                <a:latin typeface="Comic Sans MS"/>
              </a:rPr>
              <a:t>Puno ljubavi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b7e4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5943600"/>
            <a:ext cx="3048120" cy="7038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66ff"/>
                </a:solidFill>
                <a:latin typeface="Comic Sans MS"/>
              </a:rPr>
              <a:t>Sretan</a:t>
            </a:r>
            <a:r>
              <a:rPr b="1" lang="nl-NL" sz="2000" spc="-1" strike="noStrike">
                <a:solidFill>
                  <a:srgbClr val="9966ff"/>
                </a:solidFill>
                <a:latin typeface="Comic Sans MS"/>
              </a:rPr>
              <a:t> Božić i Nova Godin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06:56:30Z</dcterms:created>
  <dc:creator>Molnár Adrienn</dc:creator>
  <dc:description/>
  <dc:language>en-US</dc:language>
  <cp:lastModifiedBy>Sonja</cp:lastModifiedBy>
  <dcterms:modified xsi:type="dcterms:W3CDTF">2008-12-01T06:31:21Z</dcterms:modified>
  <cp:revision>19</cp:revision>
  <dc:subject/>
  <dc:title>No Slide Title</dc:title>
</cp:coreProperties>
</file>